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0C7-9813-4A5C-979D-AF4173B4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8CC-8687-407F-934F-A835D497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02CF0-5536-4E31-BF1B-0AC5F05F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C490E-F8E4-4246-A6AC-F88CAEDE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CB0D5-12EA-4F6F-9CB4-6536A63A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A5182-7BF0-4070-AFE7-E84DDE62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9C166-3AB1-4942-BE98-C4FBC52E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39CF9-FADD-4C51-A3B2-5D228458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F88DA-FF78-48A4-A0D8-4661C797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013D4-4CD8-4977-81DD-D8765A63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0AC91-B2EB-4E2B-9AA7-87D2886D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58470-D26C-4E56-9981-E1000800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C38-D366-4DEE-A835-198E38CD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148A5-2E44-4249-A521-E9DE184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0595C-A79D-49FB-A54B-A3D06882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10F3B-2DE0-494E-92BA-8ADF6DE1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4CB96-4EE6-48D5-B3DB-CDFE01E4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B12E7-E9B9-4E9B-AC1F-523B4CEF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49870-00AF-4AAE-B601-45300A7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6F114-6F7C-4CA0-9108-F65BFA2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04D2D-9730-4301-B4B4-E4F23C7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D9A45-0E15-40A0-B20E-1A46B865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895E7-0CAA-4085-833D-59A3A343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1EE-61FB-4135-858B-2E68219B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E3F7D-7BF1-4176-9BD0-6D59F62B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F87C07-E5BE-4AD9-B740-C6DFC6C6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5F61DA-0162-45EF-8D12-F1A2AC48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1372DF-F574-4461-8575-B5EA38FB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ADA097-32E0-4A7E-B1C5-8F77ED9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051032-7D6D-45D0-8427-A1679255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4A857B-2B9F-4C05-B887-F38E2DC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58AE7C-F084-4369-BC9E-4408DF9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476276-6086-4A37-BEA7-92E4E8D6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DA8223-605C-4EB0-AAFE-676C773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C6B28C-0A15-48B2-96DF-217F3CD3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74076C-DFBC-49EE-A463-AF3128B4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61F75D-64BC-4DE7-98A5-551BC8A8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4C9BF-E674-4A25-A4DF-6792F50E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ACBDE-8EFF-480B-9D08-E04A1510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C392C-6BCD-4AEF-9908-7CD0FFC1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19163-8C64-478E-BAD2-5AFD2260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8214E-C188-4BEB-81F8-178DBCA8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CB8D6-3C92-48FE-BF2A-D1517CC1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902A8-745C-4D1C-8EC9-C671EC1C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397B9-1C8E-4C5A-9263-C640B9D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F7EEF-08AF-4438-A6E1-1529C9C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AFB06-83AA-4F7F-BA1C-09596D60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96D54-1B00-4DE3-9D49-DAA9F778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F163E-E75A-42B5-A1D9-29CDE97F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CCDFE2-2A5E-4B12-9068-81C4D8A2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171EB6-801B-4846-9116-064CBA03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AFB898-778A-42D3-A21F-51F77442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3F8F2A-5F96-47B9-A317-0A3FC3D8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A6DD86-B483-40C9-B498-2963157D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DC3181-F8EE-42A5-88A2-2ED9265F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F4371F-C566-458D-8136-5BFE1344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C5D4FF-8A84-4210-B3EC-1D2FB59C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6E5EEC-A306-4DB3-A0C5-BA2A382B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E6F501-40DD-47AA-9279-749FCF11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BA0431-6C20-4336-AE11-D39571D4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F9DDF0-6F12-4C91-AE71-6345EAA3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7C78C-065D-445C-8673-F8F38494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9831E-C787-47B6-8092-EDDC24FC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E6D5A-B926-4BC7-8098-EACB3F82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0F905-0CEC-4C6F-B7E5-2992D39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61D07-77AB-4BDB-8529-1B761EA4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FA241-D6B3-44E7-B733-AB572E30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0E512-0804-4E8F-8301-B1DB7A35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A301E-0D8C-4DB1-8B68-7D4D965C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D1BD2-A74E-45E5-8D06-FE0E360E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A821F-7F36-43D9-90A6-4A8580B2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8C918-B41B-414B-A345-45563490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91122-D9F6-41AD-9C0B-36AF3DB8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1208B-EBF3-451D-9622-6CCC17FE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8119E-E277-4973-A514-AD4CCA74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56A6C-07A7-4543-BE4C-ABA09423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A8273-0F22-4557-A8B4-88E7F3E0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AF0ACB-1359-49D4-B4FC-CC07B737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B6FF0-9983-442B-B3D6-B4BD726F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666A0-4A95-41BB-900B-D886A79F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E13A1-7D98-4941-9C12-FD03E526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9C53D-1C1C-4584-AAEC-B82EC7FE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98B24-8352-4A25-9150-BAA8BD0A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0DC1F-CF6A-482B-867E-8E8E3EC2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40492-B53D-41A1-A059-37F6A679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584DD-700A-4F71-9DC1-8B457C92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88AB8-9914-458C-BFA3-DFE4AE36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8C046-82A1-408F-B487-A9E14AC0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D737E-8AE1-4523-81E1-94D78209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9AD5D-3EC7-4643-93E9-B71FE584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548D5-4EB0-4CA7-8A20-0043FD19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819E0-A9DD-424D-8A07-652911B7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DDC-6FF9-4D4A-B017-B10134DF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D7DF9-FF86-4BD3-BD21-367C8DBB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9E4D2-AACE-4A18-8661-D14E5D46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E4651-6ED4-4FB3-8778-CF780C45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3CE20-7A2F-44A1-A4BB-24B9DD39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A1096-AC0A-4BAA-95B2-74EF8FA5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34E21-A1CC-406E-BCEF-6F3B8542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A311E-6F7C-43A3-BBC8-CE11258E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D4F79-8DD7-4AA9-9C58-A0E020F2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3F81E-BC23-462B-8632-0A2B9A2D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07904-1AB1-481C-AFA1-28DB491E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C501B3-B202-451B-A1A5-51A9DF56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85D5E-E14F-4702-9FE2-25FE40C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D0DF1-6A46-412A-B86A-88FE8C13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B663A-0471-4327-BB5B-26129831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78D71-BF76-4E07-93F3-40C762EA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730B1-7368-42A4-BB3E-E45EE69F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F492B-13B1-4361-8575-D62EA5D4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21DECC-2ECE-41B8-8C8E-A75855C9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F193C-DD19-4DEF-BC97-DA1B1469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FEADA-8971-4E65-AB09-05E6ED73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9E0B4-39CE-4E87-8051-55219DC2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FCFB7-6FF8-4954-B430-D72FDFE7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CBD73A-8586-424F-98D8-37E7732F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8D96CB-6321-47DD-824E-BFC5C05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52C2D-4ABE-4ADA-AE92-AD38F11D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8A67D-A529-42CB-8FAA-2EFDB151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74756-3001-4B05-A139-3BE0C08F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8244D-8F76-40D0-B8C1-11A5772E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4D4FB1-5231-4265-959B-EFACE245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54C83-45AC-4814-915B-CDE3CE8C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BE856-ADEC-4EBF-B5CC-D1739DEF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E281D-EDB6-4AF7-B0EF-9A8CE732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BDCD8F-8687-4996-8C61-4046FAEB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BE521-C457-43A4-AB12-69C1F783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12CE4-624D-47CA-B64D-1059C4CB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423B0-92A4-4363-83FB-92F89D1A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57FFE-D176-4AE7-B224-A82A2E46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74F11-6AC9-4E18-8723-9C425794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6ADF74-E495-464A-AFCC-4DA873F5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5211E-5782-46DD-A021-05F4FCD4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2E5C9-73F2-4241-9A71-6DDC6C76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7F25F-A04E-4E68-819E-51FC052A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CBBF8-19C1-49DC-9552-0F0BE602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E6973-B41B-49D2-A2D4-DE750321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ACF8A9-7F14-409C-99E7-3BCAC4C2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D852E-7898-40E5-B0BB-7A5D13F2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43D2DB-3232-4A25-B0DD-C740445A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05BF4-A32D-4D02-A670-9C06B2A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69007-7B32-4E3A-960C-E5FB00FB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03F0C9-2ABE-4CD4-805A-3C869352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9E10C-6E5B-46A3-A835-BE350CA1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6F0FD-2BDA-4F82-A3ED-EB913DA5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F263E-0223-406D-9293-2874FD97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E0CAC-5657-48E3-B578-22D7BB49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401FF-A454-482F-B5D2-A12ACE7A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505F4-B84F-4D58-A8DF-F230639C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CD2BF-6812-454B-AD69-84AC55CC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D1334-030B-4FD4-9931-00B1C589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A62-442B-47DB-B1F8-60206ED7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73D6E-8EE9-4C9E-B45E-601DB848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4955B-3745-4996-9A58-B7E0A429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F2687-E9DE-4B95-83E7-8F77006C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AA4F5-DD92-4EFF-9AF1-DD4F0C60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F6EF3-F0D0-4599-8530-5F11ECA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F8739-7F60-49CF-88EB-003B4AB6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508FE-84BF-4991-A3E3-2FF29805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D1AC8-171C-4AD5-9FE9-A7BC4426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383D3-348B-45C4-9511-E1AA6C9F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3A29F-DCDB-43F6-88AF-FDA27C50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9EC-13E1-4A9D-80D4-5AC1BA2C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0B0EC-3A45-4B08-93DB-5D4A345B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A1149-7FDB-4E2A-BA70-8DF4A928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A1906-753D-48D5-A51F-1996992D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9F13B-7D98-44E2-A9A7-3B3BA60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255ED-D552-4174-916A-4FB51EE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2AA28-1BE7-47BE-8C0C-950D670A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E4448-A2D8-41A6-9E72-924C6F1D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58BDC-FB34-4E92-9730-0090928F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E90EB-F0F9-4AB9-AF50-2CACA4AB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477-FCF5-4EC5-9244-4F8EBF22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FE3-ECF4-42BA-8CAA-DFE6132B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1BE2D3-DF8F-42B7-B8E7-2FB0496C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767F1-7D2A-409D-B255-BB5AF570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474CD4-C441-4FE1-9884-38A17AB3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4A7D6-0C5C-4D7C-842B-3701E6C1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35ED76-D22E-4A61-A1D4-B226F230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8BC9BA-38E6-48FB-A0FF-68BDD675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B81751-312A-43A3-AE9F-8E65D240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37A91F-F0BA-447F-9058-E12D297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5E738F-E561-4C29-AA62-9D05AEF3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E4F-A55F-4D68-BBAE-E52349D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F8148-55BC-4CE9-B18A-EC04F737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19AD47-46DC-44E8-A4CB-2209D76C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3CA2CD-3EB1-4968-87C9-63E5DB61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943956-8352-4D6B-A5E8-87CB461B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7809C3-9A48-4935-BA94-C7DBF055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B27664-5302-4EAA-8A08-6D22BA2D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450D7E-FE5F-4A21-A98C-6F3F26D9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97A4DA-C2F2-40ED-B843-CB67D1F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981AB4-96CD-4A00-9ACC-99834101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6B839F-148D-4ADA-9177-580B82BA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7D1-6C41-4947-93FD-BDD79239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83F227-00F0-41C4-89FA-A9AE4724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DB113B-6171-4299-B0E2-6D437EE0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09207F-B353-4B2F-B5C2-8A7E4294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DC38A9-EAF6-4386-8E4F-9F26B77A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511D8B-BE5A-4049-BEF2-C9DB7104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64FB23-5779-4741-9CA0-551A4D8F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944719-0F1D-46DE-A5FA-3A417AEE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3B3AFA-8DE7-41CE-A7F0-6834F7A8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2B165B-C3EB-4094-BF36-D2B2B690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D1E7C9-EE09-4640-9144-896C549D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FA9-6770-43A4-A023-50FD781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FB424C-54C1-4382-8E93-4DC2FB7C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88C2FF-A3DE-40AD-91AC-7853771F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24EE5A-DEE6-4EE1-A3F6-3DAE641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1EA4D7-E0EA-4834-BCC1-56026D76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2C3182-C1AC-40BF-8D08-A64EA292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A38687-4785-439E-A39B-4FC15D4B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63F7B2-FFD1-42C5-93AE-73634619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22F5A-FFF3-4F4E-88F3-E66566B1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967A4-997A-435B-AC84-33EACB67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A77C9-9185-4D9E-8434-06242036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7D3BA-B4A8-425C-9034-A5C713BA836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2342A-7DA0-485D-B3A2-39638295002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672DA-25EF-49CF-AB0B-443E46CE5D9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EC5ED-0331-4034-AC58-A33A88E9220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4319A-844F-42AA-B4BE-75C0C3FD21B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BFFD7-AE70-4AB8-84FB-387C9152ECB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38C44-6347-4E52-973D-9E11B2FB434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DDFF4-B6D9-4315-AD53-608FBDDCEA5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F4343-E4E7-4E2B-BDBD-774486A5E76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68BA1-C144-4160-9A32-C847997FF71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842EC-7042-4EA2-9CD2-3B0EA703FAF6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3544E-F834-41B9-80F2-CB09A12DBC2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250CC-3B51-4A0B-92E4-F9244DE8B8A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47308-292C-4A69-90B8-898C02F258C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ADD8D-2B7C-4A02-BBC7-AA9196F33E0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F748A-1B4E-4767-89B5-135F2A433A2A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BBEB4-285D-470B-ADF6-E6F89DD80B2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F86AD-3942-4D64-A895-8786FB829E9C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50774-8E95-40EB-9C64-3A27090133D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960E0-5171-4713-8238-C1B4D8E9893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C2C8E-25AF-487A-A735-86C974507CF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14FC8-28CD-4450-9D1C-03CD42782F2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5A005-4D10-4215-8AC8-7ABC482A90E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48459-EE3E-4CE3-B1A7-89BFD03BE1F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7B3FD-72B8-498D-9437-1D15403A56A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DFDC2-DB04-4B76-A25E-7054C6E7C7B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E0590-EEE1-4287-984C-54990F76820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8FD22-FDE8-4B05-97B0-E7DC53EDE51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58981-E5C1-422C-82E5-78421D34A91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EBE2D-F039-4800-B1E7-C7A7969F62D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80898-75CD-47A3-8968-C1CBE089328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DC0EC-4715-4B7A-8B36-74131F7FC2B6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0B61F-41D3-44F1-BB23-7B1B5597BB8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570B8-04DC-42C5-9CFC-4F4192D257A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04C1F-C004-4199-919C-95F9D702F8F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EEACE-E96A-4957-896A-A37ECD3DF75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EE430-6394-46A9-A48A-406986EE32A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17A35-E35B-419F-A91A-B95FC94773C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02ED3-1DA6-4DA5-9CF1-FB814481402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mcsource.com/pages/reviews.html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erlibrarian.ning.com/profiles/blog/list?user=joycevalenza" TargetMode="External"/><Relationship Id="rId3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3366"/>
                </a:solidFill>
                <a:latin typeface="Rockwell"/>
              </a:rPr>
              <a:t>Non Fiction Collection Development</a:t>
            </a:r>
            <a:endParaRPr b="0" lang="en-US" sz="25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Deb Kitchener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Curriculum Consultant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Libraries,eLearning,Literacy - YRDSB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Weeding Tips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38" name="Content Placeholder 4" descr=""/>
          <p:cNvPicPr/>
          <p:nvPr/>
        </p:nvPicPr>
        <p:blipFill>
          <a:blip r:embed="rId2"/>
          <a:stretch/>
        </p:blipFill>
        <p:spPr>
          <a:xfrm>
            <a:off x="426960" y="1932120"/>
            <a:ext cx="7699320" cy="429264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520" y="2571840"/>
            <a:ext cx="4016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What to do with weeded materials?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4015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Make art with them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Disappear them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>
              <a:spcBef>
                <a:spcPts val="2001"/>
              </a:spcBef>
              <a:buClr>
                <a:srgbClr val="663366"/>
              </a:buClr>
              <a:buSzPct val="75000"/>
              <a:buFont typeface="Rockwel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Shhhh, use stealth….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42" name="Picture Placeholder 6" descr="book sculpture.jpg"/>
          <p:cNvPicPr/>
          <p:nvPr/>
        </p:nvPicPr>
        <p:blipFill>
          <a:blip r:embed="rId2"/>
          <a:srcRect l="-461" t="0" r="-461" b="0"/>
          <a:stretch/>
        </p:blipFill>
        <p:spPr>
          <a:xfrm>
            <a:off x="4624560" y="2286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Placeholder 7" descr="bookart.jpg"/>
          <p:cNvPicPr/>
          <p:nvPr/>
        </p:nvPicPr>
        <p:blipFill>
          <a:blip r:embed="rId3"/>
          <a:srcRect l="0" t="-16076" r="0" b="-16076"/>
          <a:stretch/>
        </p:blipFill>
        <p:spPr>
          <a:xfrm>
            <a:off x="4624560" y="2381400"/>
            <a:ext cx="2057400" cy="20397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Placeholder 8" descr="sshhh.jpg"/>
          <p:cNvPicPr/>
          <p:nvPr/>
        </p:nvPicPr>
        <p:blipFill>
          <a:blip r:embed="rId4"/>
          <a:srcRect l="0" t="-23327" r="0" b="-23327"/>
          <a:stretch/>
        </p:blipFill>
        <p:spPr>
          <a:xfrm>
            <a:off x="6802560" y="1676520"/>
            <a:ext cx="2057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fter all this work….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pSp>
        <p:nvGrpSpPr>
          <p:cNvPr id="946" name="TextBox 2"/>
          <p:cNvGrpSpPr/>
          <p:nvPr/>
        </p:nvGrpSpPr>
        <p:grpSpPr>
          <a:xfrm>
            <a:off x="1901880" y="1816200"/>
            <a:ext cx="4840200" cy="804600"/>
            <a:chOff x="1901880" y="1816200"/>
            <a:chExt cx="4840200" cy="804600"/>
          </a:xfrm>
        </p:grpSpPr>
        <p:pic>
          <p:nvPicPr>
            <p:cNvPr id="947" name="TextBox 2" descr=""/>
            <p:cNvPicPr/>
            <p:nvPr/>
          </p:nvPicPr>
          <p:blipFill>
            <a:blip r:embed="rId2"/>
            <a:stretch/>
          </p:blipFill>
          <p:spPr>
            <a:xfrm>
              <a:off x="1901880" y="1816200"/>
              <a:ext cx="48402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>
              <a:off x="1981080" y="1868400"/>
              <a:ext cx="468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Rockwell"/>
                </a:rPr>
                <a:t>Need to consider individual district guide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TextBox 3"/>
          <p:cNvGrpSpPr/>
          <p:nvPr/>
        </p:nvGrpSpPr>
        <p:grpSpPr>
          <a:xfrm>
            <a:off x="2432160" y="3297240"/>
            <a:ext cx="5114880" cy="804960"/>
            <a:chOff x="2432160" y="3297240"/>
            <a:chExt cx="5114880" cy="804960"/>
          </a:xfrm>
        </p:grpSpPr>
        <p:pic>
          <p:nvPicPr>
            <p:cNvPr id="950" name="TextBox 3" descr=""/>
            <p:cNvPicPr/>
            <p:nvPr/>
          </p:nvPicPr>
          <p:blipFill>
            <a:blip r:embed="rId3"/>
            <a:stretch/>
          </p:blipFill>
          <p:spPr>
            <a:xfrm>
              <a:off x="2432160" y="3297240"/>
              <a:ext cx="511488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>
              <a:off x="2514600" y="3352680"/>
              <a:ext cx="49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Rockwell"/>
                </a:rPr>
                <a:t>Involve stakeholders whenever pos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TextBox 4"/>
          <p:cNvGrpSpPr/>
          <p:nvPr/>
        </p:nvGrpSpPr>
        <p:grpSpPr>
          <a:xfrm>
            <a:off x="3803760" y="4821120"/>
            <a:ext cx="4584600" cy="804960"/>
            <a:chOff x="3803760" y="4821120"/>
            <a:chExt cx="4584600" cy="804960"/>
          </a:xfrm>
        </p:grpSpPr>
        <p:pic>
          <p:nvPicPr>
            <p:cNvPr id="953" name="TextBox 4" descr=""/>
            <p:cNvPicPr/>
            <p:nvPr/>
          </p:nvPicPr>
          <p:blipFill>
            <a:blip r:embed="rId4"/>
            <a:stretch/>
          </p:blipFill>
          <p:spPr>
            <a:xfrm>
              <a:off x="3803760" y="4821120"/>
              <a:ext cx="45846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"/>
            <p:cNvSpPr/>
            <p:nvPr/>
          </p:nvSpPr>
          <p:spPr>
            <a:xfrm>
              <a:off x="3886200" y="48769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Rockwell"/>
                </a:rPr>
                <a:t>Need for great suppliers and great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2520" y="3123720"/>
            <a:ext cx="31086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66"/>
                </a:solidFill>
                <a:latin typeface="Rockwell"/>
              </a:rPr>
              <a:t>Be prepared...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56" name="Picture Placeholder 6" descr="readabanned.jpg"/>
          <p:cNvPicPr/>
          <p:nvPr/>
        </p:nvPicPr>
        <p:blipFill>
          <a:blip r:embed="rId2"/>
          <a:srcRect l="0" t="-16563" r="0" b="-16563"/>
          <a:stretch/>
        </p:blipFill>
        <p:spPr>
          <a:xfrm>
            <a:off x="277920" y="2365200"/>
            <a:ext cx="4240080" cy="418788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2520" y="3995280"/>
            <a:ext cx="3108600" cy="21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Understanding your school district selection guidelines will help in selection of appropriate resources.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58" name="Picture Placeholder 7" descr="bannedbookdisplay.jpg"/>
          <p:cNvPicPr/>
          <p:nvPr/>
        </p:nvPicPr>
        <p:blipFill>
          <a:blip r:embed="rId3"/>
          <a:srcRect l="0" t="-16031" r="0" b="-16031"/>
          <a:stretch/>
        </p:blipFill>
        <p:spPr>
          <a:xfrm>
            <a:off x="277920" y="2286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Placeholder 8" descr="challenges.jpg"/>
          <p:cNvPicPr/>
          <p:nvPr/>
        </p:nvPicPr>
        <p:blipFill>
          <a:blip r:embed="rId4"/>
          <a:srcRect l="0" t="-16010" r="0" b="-16010"/>
          <a:stretch/>
        </p:blipFill>
        <p:spPr>
          <a:xfrm>
            <a:off x="2460600" y="22860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6520" y="4424040"/>
            <a:ext cx="619128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66"/>
                </a:solidFill>
                <a:latin typeface="Rockwell"/>
              </a:rPr>
              <a:t>Budget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61" name="Picture Placeholder 4" descr="booktruck.jpg"/>
          <p:cNvPicPr/>
          <p:nvPr/>
        </p:nvPicPr>
        <p:blipFill>
          <a:blip r:embed="rId2"/>
          <a:srcRect l="-1075" t="0" r="-1075" b="0"/>
          <a:stretch/>
        </p:blipFill>
        <p:spPr>
          <a:xfrm>
            <a:off x="277920" y="228600"/>
            <a:ext cx="6378480" cy="4187880"/>
          </a:xfrm>
          <a:prstGeom prst="rect">
            <a:avLst/>
          </a:prstGeom>
          <a:ln w="0">
            <a:noFill/>
          </a:ln>
        </p:spPr>
      </p:pic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06520" y="5257440"/>
            <a:ext cx="619128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You may have to make a multi-year plan to meet your needs….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lanning &amp; Purchasing Tip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03280" y="1985760"/>
            <a:ext cx="365760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lways shop for the bes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hort term gains are not always the best buy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503280" y="4165200"/>
            <a:ext cx="365760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Create a wish lis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lways look through catalogues and look for what is new and notabl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410000" y="1985760"/>
            <a:ext cx="365760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ind good review sources to meet your need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etwork with other TL’s for information and guidanc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410000" y="4170240"/>
            <a:ext cx="3657600" cy="19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Keep in touch with vendor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void browsing box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ake time to visit warehouses for backlist select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80520" y="2571840"/>
            <a:ext cx="4016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int &amp; Online Resources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401508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Discussion Time….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70" name="Picture Placeholder 7" descr="deweytatoo.jpg"/>
          <p:cNvPicPr/>
          <p:nvPr/>
        </p:nvPicPr>
        <p:blipFill>
          <a:blip r:embed="rId2"/>
          <a:srcRect l="0" t="-16024" r="0" b="-16024"/>
          <a:stretch/>
        </p:blipFill>
        <p:spPr>
          <a:xfrm>
            <a:off x="4624560" y="2286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Placeholder 8" descr="ipodbook.jpg"/>
          <p:cNvPicPr/>
          <p:nvPr/>
        </p:nvPicPr>
        <p:blipFill>
          <a:blip r:embed="rId3"/>
          <a:srcRect l="0" t="-14651" r="0" b="-14651"/>
          <a:stretch/>
        </p:blipFill>
        <p:spPr>
          <a:xfrm>
            <a:off x="4624560" y="2381400"/>
            <a:ext cx="2057400" cy="20397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Placeholder 6" descr="bookburningmemeorialberlin.jpg"/>
          <p:cNvPicPr/>
          <p:nvPr/>
        </p:nvPicPr>
        <p:blipFill>
          <a:blip r:embed="rId4"/>
          <a:srcRect l="0" t="-26326" r="0" b="-26326"/>
          <a:stretch/>
        </p:blipFill>
        <p:spPr>
          <a:xfrm>
            <a:off x="6802560" y="2381400"/>
            <a:ext cx="205740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Resources &amp; Interesting Read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95959"/>
                </a:solidFill>
                <a:uFillTx/>
                <a:latin typeface="Rockwell"/>
              </a:rPr>
              <a:t>Building a School Library Collection Plan:  A Beginning Handbook with Internet Assist.  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avid V. Loertscher, Blanch Woolls. 1999  ISBN0931510740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c5fbc"/>
                </a:solidFill>
                <a:uFillTx/>
                <a:latin typeface="Rockwell"/>
                <a:hlinkClick r:id="rId2"/>
              </a:rPr>
              <a:t>http://www.lmcsource.com/pages/reviews.html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Collection mapping files to support tex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95959"/>
                </a:solidFill>
                <a:uFillTx/>
                <a:latin typeface="Rockwell"/>
              </a:rPr>
              <a:t>Achieving Information Literacy. 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 Canadian Association for School Librarie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ll images from Flickr file sharing licensed under Creative Common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  <p:pic>
        <p:nvPicPr>
          <p:cNvPr id="976" name="Picture 4" descr="3309070974_eb90364319_m.jpg"/>
          <p:cNvPicPr/>
          <p:nvPr/>
        </p:nvPicPr>
        <p:blipFill>
          <a:blip r:embed="rId3"/>
          <a:stretch/>
        </p:blipFill>
        <p:spPr>
          <a:xfrm>
            <a:off x="2508120" y="551808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ntinued….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 rot="16200000">
            <a:off x="2371680" y="-272880"/>
            <a:ext cx="3809880" cy="75564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228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c5fbc"/>
                </a:solidFill>
                <a:uFillTx/>
                <a:latin typeface="Rockwell"/>
                <a:hlinkClick r:id="rId2"/>
              </a:rPr>
              <a:t>http://teacherlibrarian.ning.com/profiles/blog/list?user=joycevalenza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  Joyce Valenza’s Nin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95959"/>
                </a:solidFill>
                <a:uFillTx/>
                <a:latin typeface="Rockwell"/>
              </a:rPr>
              <a:t>Toward a 21</a:t>
            </a:r>
            <a:r>
              <a:rPr b="0" lang="en-US" sz="2000" spc="-1" strike="noStrike" u="sng" baseline="30000">
                <a:solidFill>
                  <a:srgbClr val="595959"/>
                </a:solidFill>
                <a:uFillTx/>
                <a:latin typeface="Rockwell"/>
              </a:rPr>
              <a:t>st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Rockwell"/>
              </a:rPr>
              <a:t> Century School Library Media Program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.  Esther Rosenfeld and David Loerstcher.  2007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Content Placeholder 3" descr="where to begin.jpg"/>
          <p:cNvPicPr/>
          <p:nvPr/>
        </p:nvPicPr>
        <p:blipFill>
          <a:blip r:embed="rId2"/>
          <a:srcRect l="0" t="-24094" r="0" b="-24094"/>
          <a:stretch/>
        </p:blipFill>
        <p:spPr>
          <a:xfrm>
            <a:off x="277920" y="-990720"/>
            <a:ext cx="4827600" cy="885204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5105520" y="3995280"/>
            <a:ext cx="3898800" cy="21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Where to begin??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oertscher &amp; Woolls </a:t>
            </a:r>
            <a:r>
              <a:rPr b="0" lang="en-US" sz="1600" spc="-1" strike="noStrike">
                <a:solidFill>
                  <a:srgbClr val="663366"/>
                </a:solidFill>
                <a:latin typeface="Rockwell"/>
              </a:rPr>
              <a:t>(1999)</a:t>
            </a:r>
            <a:endParaRPr b="0" lang="en-US" sz="1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98600" y="1600200"/>
            <a:ext cx="755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elivering: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e right inform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o the right pers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t the right tim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 the right plac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 the righ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Using the best technology delivery system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s the vision of the collection development pla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Many Considerations…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17" name="Content Placeholder 6" descr=""/>
          <p:cNvPicPr/>
          <p:nvPr/>
        </p:nvPicPr>
        <p:blipFill>
          <a:blip r:embed="rId2"/>
          <a:stretch/>
        </p:blipFill>
        <p:spPr>
          <a:xfrm>
            <a:off x="426960" y="1974960"/>
            <a:ext cx="7699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80880" y="2571840"/>
            <a:ext cx="32544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Know your collection….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19" name="Content Placeholder 5" descr="librarybooks.jpg"/>
          <p:cNvPicPr/>
          <p:nvPr/>
        </p:nvPicPr>
        <p:blipFill>
          <a:blip r:embed="rId2"/>
          <a:srcRect l="0" t="-13641" r="0" b="-13641"/>
          <a:stretch/>
        </p:blipFill>
        <p:spPr>
          <a:xfrm>
            <a:off x="3995640" y="457200"/>
            <a:ext cx="4770360" cy="6073920"/>
          </a:xfrm>
          <a:prstGeom prst="rect">
            <a:avLst/>
          </a:prstGeom>
          <a:ln w="0">
            <a:noFill/>
          </a:ln>
        </p:spPr>
      </p:pic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3256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Ideas from far end….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98989"/>
              </a:solidFill>
              <a:latin typeface="Rockwell"/>
            </a:endParaRPr>
          </a:p>
        </p:txBody>
      </p:sp>
      <p:pic>
        <p:nvPicPr>
          <p:cNvPr id="923" name="Picture Placeholder 6" descr="circuslibrarian.jpg"/>
          <p:cNvPicPr/>
          <p:nvPr/>
        </p:nvPicPr>
        <p:blipFill>
          <a:blip r:embed="rId2"/>
          <a:srcRect l="-20822" t="0" r="-20822" b="0"/>
          <a:stretch/>
        </p:blipFill>
        <p:spPr>
          <a:xfrm>
            <a:off x="4624560" y="2286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Placeholder 7" descr="rainbow books.jpg"/>
          <p:cNvPicPr/>
          <p:nvPr/>
        </p:nvPicPr>
        <p:blipFill>
          <a:blip r:embed="rId3"/>
          <a:srcRect l="0" t="-16010" r="0" b="-16010"/>
          <a:stretch/>
        </p:blipFill>
        <p:spPr>
          <a:xfrm>
            <a:off x="6802560" y="237816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856800" y="1779120"/>
            <a:ext cx="3086280" cy="2041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2000"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Rockwell"/>
              </a:rPr>
              <a:t>How might you do this?</a:t>
            </a:r>
            <a:endParaRPr b="0" lang="en-US" sz="46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Need to know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urrent size of NF collec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urrent average age of collec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ondition of collec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Quality of collec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new media has been added in recent year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urrent state of weedin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Outdated technologie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Might be: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Need to knows</a:t>
            </a: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	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ow does your collection compare to other schools, provincial or national standards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mpact of spending over time…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Cont’d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You may need to weed!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pic>
        <p:nvPicPr>
          <p:cNvPr id="933" name="Content Placeholder 6" descr="weeding.jpg"/>
          <p:cNvPicPr/>
          <p:nvPr/>
        </p:nvPicPr>
        <p:blipFill>
          <a:blip r:embed="rId2"/>
          <a:srcRect l="-12008" t="0" r="-12008" b="0"/>
          <a:stretch/>
        </p:blipFill>
        <p:spPr>
          <a:xfrm>
            <a:off x="4156200" y="1986120"/>
            <a:ext cx="3657600" cy="1965240"/>
          </a:xfrm>
          <a:prstGeom prst="rect">
            <a:avLst/>
          </a:prstGeom>
          <a:ln w="0">
            <a:noFill/>
          </a:ln>
        </p:spPr>
      </p:pic>
      <p:pic>
        <p:nvPicPr>
          <p:cNvPr id="934" name="Content Placeholder 7" descr="anotheruselessbook.jpg"/>
          <p:cNvPicPr/>
          <p:nvPr/>
        </p:nvPicPr>
        <p:blipFill>
          <a:blip r:embed="rId3"/>
          <a:srcRect l="-8882" t="0" r="-8882" b="0"/>
          <a:stretch/>
        </p:blipFill>
        <p:spPr>
          <a:xfrm>
            <a:off x="498600" y="1986120"/>
            <a:ext cx="3657600" cy="4140000"/>
          </a:xfrm>
          <a:prstGeom prst="rect">
            <a:avLst/>
          </a:prstGeom>
          <a:ln w="0">
            <a:noFill/>
          </a:ln>
        </p:spPr>
      </p:pic>
      <p:pic>
        <p:nvPicPr>
          <p:cNvPr id="935" name="Content Placeholder 8" descr="oldbook.jpg"/>
          <p:cNvPicPr/>
          <p:nvPr/>
        </p:nvPicPr>
        <p:blipFill>
          <a:blip r:embed="rId4"/>
          <a:srcRect l="-90468" t="0" r="-90468" b="0"/>
          <a:stretch/>
        </p:blipFill>
        <p:spPr>
          <a:xfrm>
            <a:off x="2819520" y="4160880"/>
            <a:ext cx="3657600" cy="1965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" descr="damaged books.jpg"/>
          <p:cNvPicPr/>
          <p:nvPr/>
        </p:nvPicPr>
        <p:blipFill>
          <a:blip r:embed="rId5"/>
          <a:stretch/>
        </p:blipFill>
        <p:spPr>
          <a:xfrm>
            <a:off x="5769000" y="428616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9:46:26Z</dcterms:created>
  <dc:creator>Admin Admin</dc:creator>
  <dc:description/>
  <dc:language>en-US</dc:language>
  <cp:lastModifiedBy>Admin Admin</cp:lastModifiedBy>
  <dcterms:modified xsi:type="dcterms:W3CDTF">2009-04-02T22:40:39Z</dcterms:modified>
  <cp:revision>4</cp:revision>
  <dc:subject/>
  <dc:title>Non Fiction Collection Development</dc:title>
</cp:coreProperties>
</file>